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513C-3B8C-4288-AA37-A4385694C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going to read a chapter called The Night of Broken G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going to show you pictures.  Would can you conclude from these pictur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photos shown, I can conclude 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ded – not going to their Jewish neighbors with businesses.  Much of the population of Germany didn’t seem terribly upset.  Some people are concerned but others are nonchalan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this increase their comprehension before they read?  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vehicles to give background knowled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1351-2F3F-46B1-8BE6-5752D5CD0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9EAB-887E-454E-AEB5-00E2C096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64CB-E63C-4258-9A7A-885D94A3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CB97-7A57-4076-98FF-86D7EB1D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F230-462D-406C-9897-2B3A5550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84B-2583-4EA1-8FBD-E4F4CD16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611F-DD59-4897-87D5-3A0F89E2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5606-94C6-4DB3-8EAF-82E1E3E3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9223-0424-4706-B000-22FE9E5E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E14-06CC-4B98-B070-CC8A5D4D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EE58-D589-4C69-9AEB-7604423E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78C7-E5A6-4EB4-AD01-D3EEE6DD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113D-F7C7-44ED-AD5F-C268EB6C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00F9-600B-4D86-870B-A8ED3DE27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ight of Broken Gl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se slides were used to establish background knowledge for a chapter in 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llel Journeys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ents  were shown the slides and asked to reach conclusions based on the cont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ita L. Archer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ight of Broken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kristallnacht1_1110849c"/>
          <p:cNvPicPr/>
          <p:nvPr/>
        </p:nvPicPr>
        <p:blipFill>
          <a:blip r:embed="rId1"/>
          <a:stretch/>
        </p:blipFill>
        <p:spPr>
          <a:xfrm>
            <a:off x="1284120" y="1981080"/>
            <a:ext cx="6573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ight of Broken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rokewin"/>
          <p:cNvPicPr/>
          <p:nvPr/>
        </p:nvPicPr>
        <p:blipFill>
          <a:blip r:embed="rId1"/>
          <a:stretch/>
        </p:blipFill>
        <p:spPr>
          <a:xfrm>
            <a:off x="2019240" y="1981080"/>
            <a:ext cx="510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ight of Broken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kristallnacht,+store+berlin+2"/>
          <p:cNvPicPr/>
          <p:nvPr/>
        </p:nvPicPr>
        <p:blipFill>
          <a:blip r:embed="rId1"/>
          <a:stretch/>
        </p:blipFill>
        <p:spPr>
          <a:xfrm>
            <a:off x="1865160" y="1981080"/>
            <a:ext cx="541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ight of Broken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08lede_kristallnacht-blogSpan"/>
          <p:cNvPicPr/>
          <p:nvPr/>
        </p:nvPicPr>
        <p:blipFill>
          <a:blip r:embed="rId1"/>
          <a:stretch/>
        </p:blipFill>
        <p:spPr>
          <a:xfrm>
            <a:off x="1446120" y="1981080"/>
            <a:ext cx="6249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ight of Broken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photo01"/>
          <p:cNvPicPr/>
          <p:nvPr/>
        </p:nvPicPr>
        <p:blipFill>
          <a:blip r:embed="rId1"/>
          <a:stretch/>
        </p:blipFill>
        <p:spPr>
          <a:xfrm>
            <a:off x="1592280" y="1981080"/>
            <a:ext cx="5958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12:14:38Z</dcterms:created>
  <dc:creator>Archer Anita</dc:creator>
  <dc:description/>
  <dc:language>en-US</dc:language>
  <cp:lastModifiedBy>Becky Brandl</cp:lastModifiedBy>
  <dcterms:modified xsi:type="dcterms:W3CDTF">2012-07-20T18:09:26Z</dcterms:modified>
  <cp:revision>3</cp:revision>
  <dc:subject/>
  <dc:title>The Night of Broken Glass</dc:title>
</cp:coreProperties>
</file>